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1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etor ex o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3080" y="5493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Foetor ex o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98" idx="3"/>
            <a:endCxn id="103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 bakter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erfallsprodu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urch Azet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urch NH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8480" y="6363360"/>
            <a:ext cx="1730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Ammonia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N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8" idx="3"/>
            <a:endCxn id="11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Umbau von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 Bakterien 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leimhäu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20880" y="5493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oetor ex or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urch NH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8480" y="6363360"/>
            <a:ext cx="1730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Ammonia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bau von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Bakterien 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leimhäu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3"/>
            <a:endCxn id="11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919800" y="549360"/>
            <a:ext cx="7632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Foetor ex or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 NH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&gt; Umbau von Harnstoff durch Bakterien 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leimhäu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480" y="6363360"/>
            <a:ext cx="1730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Ammonia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zo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Azet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3"/>
            <a:endCxn id="122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940320" y="54936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Foetor ex or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durch Azet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to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bakter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fallsprodu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3"/>
            <a:endCxn id="12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kterie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mehru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38240" y="549360"/>
            <a:ext cx="51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oetor ex or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durch bakterielle Zerfallsprodu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kterie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ermehr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3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3" name=""/>
          <p:cNvCxnSpPr>
            <a:stCxn id="130" idx="3"/>
            <a:endCxn id="13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m Ösophag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0" idx="3"/>
            <a:endCxn id="13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asenhöh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ulhöh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37880" y="549360"/>
            <a:ext cx="536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oetor ex or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durch bakterielle Zerfallsprodukt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akterienvermehr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9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ulhöh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37880" y="549360"/>
            <a:ext cx="536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Foetor ex or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 bakterielle Zerfallsprodukt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akterienvermehrung ↑ &gt; in der Maulhöh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3"/>
            <a:endCxn id="14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om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ingiv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onsil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ronasale Fist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trige Zahnwurz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senhöh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6640" y="549360"/>
            <a:ext cx="57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etor ex ore &gt; durch bakterielle Zerfallsprodukte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akterienvermehrung ↑ &gt; in der Nasenhöh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3"/>
            <a:endCxn id="14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trige Rhin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Ösophag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6640" y="549360"/>
            <a:ext cx="57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etor ex ore &gt; durch bakterielle Zerfallsprodukte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akterienvermehrung ↑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m Ösophag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3"/>
            <a:endCxn id="15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egaösophag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6T13:10:13Z</dcterms:modified>
  <cp:revision>330</cp:revision>
  <dc:subject/>
  <dc:title>Vorstellung einer Neuheit</dc:title>
</cp:coreProperties>
</file>